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4.png" ContentType="image/png"/>
  <Override PartName="/ppt/media/image2.png" ContentType="image/png"/>
  <Override PartName="/ppt/media/image23.jpeg" ContentType="image/jpeg"/>
  <Override PartName="/ppt/media/image18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4.jpeg" ContentType="image/jpeg"/>
  <Override PartName="/ppt/media/image1.png" ContentType="image/png"/>
  <Override PartName="/ppt/media/image24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D1F7B-DDA0-4B5B-8745-3DEF05E0078B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4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1D9AE-450E-45D4-AD26-DDCEC571F173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3A2477-FDCB-4198-9273-32DE07D71C0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88C776-EA00-426A-9E4A-E3B55CFB8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931762-33D4-41D0-8046-179F1BB85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9720E9-0B1D-4E03-A5AD-CD49B6B2180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23C0BE-3BA8-46DA-B2B9-34A202E7E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1B5021-CEC4-4D16-A93E-9D79C9A43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BC9066-D38B-40A9-AC23-236A7F094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F7B5B8-D5BB-460D-8208-60059C561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E49530-BF9F-43EF-8C33-3AA8C6199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9A3107-DE07-4A45-ABD5-03A9F4D9B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DF56BD-2D7B-4484-A3E4-6D4EE1DF2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A0506E-4BB2-4D8D-8B2D-735AE4C7C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486EA-70CE-4A1D-96FF-6E476327BB4D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000"/>
            <a:ext cx="9144000" cy="2168640"/>
            <a:chOff x="0" y="4689000"/>
            <a:chExt cx="9144000" cy="216864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51160"/>
              <a:ext cx="9115560" cy="1806480"/>
              <a:chOff x="28440" y="5051160"/>
              <a:chExt cx="9115560" cy="180648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51160"/>
                <a:ext cx="9115560" cy="1806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5116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000"/>
              <a:ext cx="9097920" cy="402840"/>
              <a:chOff x="0" y="468900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8280"/>
                <a:ext cx="9097920" cy="34524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200"/>
                <a:ext cx="9097920" cy="35928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71320" y="207180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  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一、运动疗法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5364000" y="5157720"/>
            <a:ext cx="28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                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宋体"/>
              </a:rPr>
              <a:t>毛玉瑢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运动处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运动处方选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05600" indent="-2714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运动强度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085760" indent="-21708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%V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2ma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%H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ma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MET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RPE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运动持续时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085760" indent="-21708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70% %V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2ma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：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0~30min,  5min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运动频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085760" indent="-21708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qd, qod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运动处方设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05600" indent="-2714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等张练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等长练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等速练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牵伸技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95280" y="1371240"/>
            <a:ext cx="7848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定义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泛指用来延长病理性缩短的软组织而增加或改善活动度的操作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技术种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被动牵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主动抑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柔软性运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改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ROM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和柔软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适应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4" name="图片 4" descr="37AO2123.jpg"/>
          <p:cNvPicPr/>
          <p:nvPr/>
        </p:nvPicPr>
        <p:blipFill>
          <a:blip r:embed="rId1"/>
          <a:srcRect l="13579" t="37907" r="23764" b="27723"/>
          <a:stretch/>
        </p:blipFill>
        <p:spPr>
          <a:xfrm>
            <a:off x="4859280" y="4497480"/>
            <a:ext cx="1944720" cy="1884240"/>
          </a:xfrm>
          <a:prstGeom prst="rect">
            <a:avLst/>
          </a:prstGeom>
          <a:ln w="0">
            <a:noFill/>
          </a:ln>
        </p:spPr>
      </p:pic>
      <p:sp>
        <p:nvSpPr>
          <p:cNvPr id="165" name="TextBox 5"/>
          <p:cNvSpPr/>
          <p:nvPr/>
        </p:nvSpPr>
        <p:spPr>
          <a:xfrm>
            <a:off x="7164360" y="492912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跟腱牵伸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6" name="图片 7" descr="1.jpg"/>
          <p:cNvPicPr/>
          <p:nvPr/>
        </p:nvPicPr>
        <p:blipFill>
          <a:blip r:embed="rId2"/>
          <a:stretch/>
        </p:blipFill>
        <p:spPr>
          <a:xfrm>
            <a:off x="4716360" y="2421000"/>
            <a:ext cx="367200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关节松动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生理性运动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physiologic movement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通过他人或外力进行的被动关节活动，但这种运动也可以通过自身主动活动完成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附属性运动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accessory movement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只能通过被动活动来完成的关节运动，自己不能主动完成，但这种关节运动是存在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关节松动术适应证与原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179280" y="1988640"/>
            <a:ext cx="8159760" cy="23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关节疼痛，反射性肌肉收缩或痉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可逆性关节活动减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渐进性活动受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功能性制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关节松动操作分级及应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285840" y="1000080"/>
            <a:ext cx="896616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级手法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Grade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Ⅰ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ROM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起始段进行小幅度的节律性振动，主要用于缓解疼痛或降低痉挛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级手法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Grade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Ⅱ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ROM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内进行大幅度的节律性振动，但活动终点未触及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ROM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末端。可分Ⅱ－、Ⅱ和Ⅱ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，可用于维持关节内活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级手法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Grade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Ⅲ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ROM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末端进行大幅度的节律性振动，用于减轻挛缩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级手法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Grade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Ⅳ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ROM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终末端进行小幅度的节律性振动，可打断粘连的组织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76" name="Group 6"/>
          <p:cNvGrpSpPr/>
          <p:nvPr/>
        </p:nvGrpSpPr>
        <p:grpSpPr>
          <a:xfrm>
            <a:off x="1857240" y="5429160"/>
            <a:ext cx="6553440" cy="970200"/>
            <a:chOff x="1857240" y="5429160"/>
            <a:chExt cx="6553440" cy="970200"/>
          </a:xfrm>
        </p:grpSpPr>
        <p:sp>
          <p:nvSpPr>
            <p:cNvPr id="177" name="AutoShape 7"/>
            <p:cNvSpPr/>
            <p:nvPr/>
          </p:nvSpPr>
          <p:spPr>
            <a:xfrm>
              <a:off x="1857240" y="5429160"/>
              <a:ext cx="6553440" cy="97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8" name="Line 8"/>
            <p:cNvSpPr/>
            <p:nvPr/>
          </p:nvSpPr>
          <p:spPr>
            <a:xfrm>
              <a:off x="2228400" y="5695920"/>
              <a:ext cx="0" cy="267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9" name="Line 9"/>
            <p:cNvSpPr/>
            <p:nvPr/>
          </p:nvSpPr>
          <p:spPr>
            <a:xfrm>
              <a:off x="2228400" y="58298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0" name="Line 10"/>
            <p:cNvSpPr/>
            <p:nvPr/>
          </p:nvSpPr>
          <p:spPr>
            <a:xfrm>
              <a:off x="2228400" y="5829840"/>
              <a:ext cx="57178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1" name="Line 11"/>
            <p:cNvSpPr/>
            <p:nvPr/>
          </p:nvSpPr>
          <p:spPr>
            <a:xfrm>
              <a:off x="7946280" y="5695920"/>
              <a:ext cx="0" cy="2678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2" name="Line 12"/>
            <p:cNvSpPr/>
            <p:nvPr/>
          </p:nvSpPr>
          <p:spPr>
            <a:xfrm flipV="1">
              <a:off x="2228400" y="5695560"/>
              <a:ext cx="308880" cy="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3" name="Line 13"/>
            <p:cNvSpPr/>
            <p:nvPr/>
          </p:nvSpPr>
          <p:spPr>
            <a:xfrm>
              <a:off x="4082760" y="5964120"/>
              <a:ext cx="231840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4" name="Line 14"/>
            <p:cNvSpPr/>
            <p:nvPr/>
          </p:nvSpPr>
          <p:spPr>
            <a:xfrm>
              <a:off x="2537640" y="6097680"/>
              <a:ext cx="2163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5" name="Line 15"/>
            <p:cNvSpPr/>
            <p:nvPr/>
          </p:nvSpPr>
          <p:spPr>
            <a:xfrm>
              <a:off x="5783040" y="5695920"/>
              <a:ext cx="2163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6" name="Line 16"/>
            <p:cNvSpPr/>
            <p:nvPr/>
          </p:nvSpPr>
          <p:spPr>
            <a:xfrm>
              <a:off x="5783040" y="6097680"/>
              <a:ext cx="185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7" name="Line 17"/>
            <p:cNvSpPr/>
            <p:nvPr/>
          </p:nvSpPr>
          <p:spPr>
            <a:xfrm>
              <a:off x="7482240" y="5964120"/>
              <a:ext cx="464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8" name="WordArt 18"/>
            <p:cNvSpPr txBox="1"/>
            <p:nvPr/>
          </p:nvSpPr>
          <p:spPr>
            <a:xfrm>
              <a:off x="2073240" y="5964120"/>
              <a:ext cx="154800" cy="267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46ca6"/>
                  </a:solidFill>
                  <a:latin typeface="宋体"/>
                </a:rPr>
                <a:t>A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46ca6"/>
                </a:solidFill>
                <a:latin typeface="宋体"/>
                <a:ea typeface="宋体"/>
              </a:endParaRPr>
            </a:p>
          </p:txBody>
        </p:sp>
        <p:sp>
          <p:nvSpPr>
            <p:cNvPr id="189" name="WordArt 19"/>
            <p:cNvSpPr txBox="1"/>
            <p:nvPr/>
          </p:nvSpPr>
          <p:spPr>
            <a:xfrm>
              <a:off x="7946280" y="5964120"/>
              <a:ext cx="154800" cy="221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宋体"/>
                </a:rPr>
                <a:t>B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  <p:sp>
          <p:nvSpPr>
            <p:cNvPr id="190" name="WordArt 20"/>
            <p:cNvSpPr txBox="1"/>
            <p:nvPr/>
          </p:nvSpPr>
          <p:spPr>
            <a:xfrm>
              <a:off x="2382480" y="5429160"/>
              <a:ext cx="90000" cy="166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宋体"/>
                </a:rPr>
                <a:t>I</a:t>
              </a:r>
              <a:endParaRPr b="0" lang="en-US" sz="1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  <p:sp>
          <p:nvSpPr>
            <p:cNvPr id="191" name="WordArt 21"/>
            <p:cNvSpPr txBox="1"/>
            <p:nvPr/>
          </p:nvSpPr>
          <p:spPr>
            <a:xfrm>
              <a:off x="5164920" y="6097680"/>
              <a:ext cx="177480" cy="167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宋体"/>
                </a:rPr>
                <a:t>II</a:t>
              </a:r>
              <a:endParaRPr b="0" lang="en-US" sz="1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  <p:sp>
          <p:nvSpPr>
            <p:cNvPr id="192" name="WordArt 22"/>
            <p:cNvSpPr txBox="1"/>
            <p:nvPr/>
          </p:nvSpPr>
          <p:spPr>
            <a:xfrm>
              <a:off x="6555240" y="5429160"/>
              <a:ext cx="270360" cy="167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宋体"/>
                </a:rPr>
                <a:t>III</a:t>
              </a:r>
              <a:endParaRPr b="0" lang="en-US" sz="1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  <p:sp>
          <p:nvSpPr>
            <p:cNvPr id="193" name="WordArt 23"/>
            <p:cNvSpPr txBox="1"/>
            <p:nvPr/>
          </p:nvSpPr>
          <p:spPr>
            <a:xfrm>
              <a:off x="7637400" y="6097680"/>
              <a:ext cx="178560" cy="167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宋体"/>
                </a:rPr>
                <a:t>IV</a:t>
              </a:r>
              <a:endParaRPr b="0" lang="en-US" sz="1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  <p:sp>
          <p:nvSpPr>
            <p:cNvPr id="194" name="WordArt 24"/>
            <p:cNvSpPr txBox="1"/>
            <p:nvPr/>
          </p:nvSpPr>
          <p:spPr>
            <a:xfrm>
              <a:off x="3309480" y="6231960"/>
              <a:ext cx="270360" cy="167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宋体"/>
                </a:rPr>
                <a:t>II-</a:t>
              </a:r>
              <a:endParaRPr b="0" lang="en-US" sz="1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  <p:sp>
          <p:nvSpPr>
            <p:cNvPr id="195" name="WordArt 25"/>
            <p:cNvSpPr txBox="1"/>
            <p:nvPr/>
          </p:nvSpPr>
          <p:spPr>
            <a:xfrm>
              <a:off x="6555240" y="6231960"/>
              <a:ext cx="270360" cy="167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宋体"/>
                </a:rPr>
                <a:t>II+</a:t>
              </a:r>
              <a:endParaRPr b="0" lang="en-US" sz="1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呼吸练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0" y="1268280"/>
            <a:ext cx="9144000" cy="498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适应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肺部疾患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COP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、肺炎、肺扩张不全、肺栓塞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ARDS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胸腹部疼痛（手术或外伤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继发性气道阻塞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中枢神经系统疾患造成的肌肉无力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严重的骨骼异常：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AIS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作用和目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改善呼吸肌力量及协调性，增加有效咳嗽频率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保持胸腔活动度，改善换气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矫正无效或异常呼吸模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呼吸练习种类与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826560" y="1371240"/>
            <a:ext cx="7993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横膈呼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呼吸肌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局部呼吸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舌咽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缩唇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胸廓松动练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咳嗽练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体位引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平衡练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04560" y="13712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目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增强肌力和感觉功能（本体感觉训练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重建或改善平衡功能，降低肌张力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适应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神经系统疾病或损伤等所致平衡障碍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骨骼肌肉疾病引起肌力下降和关节活动受限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视觉和听觉障碍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549360"/>
            <a:ext cx="8077320" cy="3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平衡练习康复护理种类和方法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285840" y="1143000"/>
            <a:ext cx="861048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静态平衡练习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卧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坐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跪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站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单腿平衡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正常维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6~10s.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动态平衡练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软地面、平衡板、步行、游戏、打球、太极拳等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08" name="组合 8"/>
          <p:cNvGrpSpPr/>
          <p:nvPr/>
        </p:nvGrpSpPr>
        <p:grpSpPr>
          <a:xfrm>
            <a:off x="1928880" y="3643200"/>
            <a:ext cx="2448000" cy="2606760"/>
            <a:chOff x="1928880" y="3643200"/>
            <a:chExt cx="2448000" cy="2606760"/>
          </a:xfrm>
        </p:grpSpPr>
        <p:pic>
          <p:nvPicPr>
            <p:cNvPr id="209" name="Picture 4" descr="37AO1614_缩小大小"/>
            <p:cNvPicPr/>
            <p:nvPr/>
          </p:nvPicPr>
          <p:blipFill>
            <a:blip r:embed="rId1"/>
            <a:srcRect l="5683" t="9449" r="8525" b="4252"/>
            <a:stretch/>
          </p:blipFill>
          <p:spPr>
            <a:xfrm>
              <a:off x="1928880" y="3643200"/>
              <a:ext cx="2448000" cy="260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圆角矩形 6"/>
            <p:cNvSpPr/>
            <p:nvPr/>
          </p:nvSpPr>
          <p:spPr>
            <a:xfrm>
              <a:off x="3094200" y="3938400"/>
              <a:ext cx="466560" cy="363240"/>
            </a:xfrm>
            <a:prstGeom prst="roundRect">
              <a:avLst>
                <a:gd name="adj" fmla="val 16667"/>
              </a:avLst>
            </a:prstGeom>
            <a:solidFill>
              <a:srgbClr val="8ac8de"/>
            </a:solidFill>
            <a:ln w="25560">
              <a:solidFill>
                <a:srgbClr val="6492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11" name="组合 9"/>
          <p:cNvGrpSpPr/>
          <p:nvPr/>
        </p:nvGrpSpPr>
        <p:grpSpPr>
          <a:xfrm>
            <a:off x="5214960" y="3571920"/>
            <a:ext cx="2376360" cy="2736720"/>
            <a:chOff x="5214960" y="3571920"/>
            <a:chExt cx="2376360" cy="2736720"/>
          </a:xfrm>
        </p:grpSpPr>
        <p:pic>
          <p:nvPicPr>
            <p:cNvPr id="212" name="Picture 5" descr="CIMG4813"/>
            <p:cNvPicPr/>
            <p:nvPr/>
          </p:nvPicPr>
          <p:blipFill>
            <a:blip r:embed="rId2"/>
            <a:stretch/>
          </p:blipFill>
          <p:spPr>
            <a:xfrm>
              <a:off x="5214960" y="3571920"/>
              <a:ext cx="2376360" cy="273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圆角矩形 7"/>
            <p:cNvSpPr/>
            <p:nvPr/>
          </p:nvSpPr>
          <p:spPr>
            <a:xfrm>
              <a:off x="6199200" y="3703680"/>
              <a:ext cx="460080" cy="393480"/>
            </a:xfrm>
            <a:prstGeom prst="roundRect">
              <a:avLst>
                <a:gd name="adj" fmla="val 16667"/>
              </a:avLst>
            </a:prstGeom>
            <a:solidFill>
              <a:srgbClr val="8ac8de"/>
            </a:solidFill>
            <a:ln w="25560">
              <a:solidFill>
                <a:srgbClr val="6492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14" name="TextBox 10"/>
          <p:cNvSpPr/>
          <p:nvPr/>
        </p:nvSpPr>
        <p:spPr>
          <a:xfrm>
            <a:off x="2484360" y="595008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太极拳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TextBox 11"/>
          <p:cNvSpPr/>
          <p:nvPr/>
        </p:nvSpPr>
        <p:spPr>
          <a:xfrm>
            <a:off x="6516720" y="602136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平衡板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协调性练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571320" y="1341000"/>
            <a:ext cx="835812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目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强化肢体、躯干、手、足等协调，获得动作准确性、反应速度、可调性和动作节律性，使局部和整体、自身与外部环境协调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适应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深部感觉障碍，中枢神经系统损伤后的运动及协调障碍，帕金森病等所致协调运动障碍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运动疗法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179280" y="1125360"/>
            <a:ext cx="878544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运动治疗基础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关节活动度练习、肌力练习、牵伸技术、关节松动技术、呼吸练习、平衡协调性练习和步态训练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神经发育疗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Bobath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法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Brunnstrom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法、神经肌肉本体感觉促进法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Rood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法和运动再学习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6" name="Picture 4" descr="P~15"/>
          <p:cNvPicPr/>
          <p:nvPr/>
        </p:nvPicPr>
        <p:blipFill>
          <a:blip r:embed="rId1"/>
          <a:stretch/>
        </p:blipFill>
        <p:spPr>
          <a:xfrm>
            <a:off x="7164360" y="620640"/>
            <a:ext cx="1655640" cy="17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协调性练习康复护理种类和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304920" y="1773000"/>
            <a:ext cx="861048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肢体交替活动练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肢体、躯干协调练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手、足协调性活动练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全身协调性练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水中运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本体感觉促进技术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步态训练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899640" y="1484280"/>
            <a:ext cx="4751640" cy="476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适应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中枢和外周神经系统疾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肌肉骨关节系统疾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老年患者步行能力减退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步态训练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基础训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复合动作和实际步行训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器械辅助及反馈（机器人，减重及平板练习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25" name="Picture 2" descr="F:\myr\stroke-2012\skelecton01.jpg"/>
          <p:cNvPicPr/>
          <p:nvPr/>
        </p:nvPicPr>
        <p:blipFill>
          <a:blip r:embed="rId1"/>
          <a:stretch/>
        </p:blipFill>
        <p:spPr>
          <a:xfrm>
            <a:off x="5580000" y="1341360"/>
            <a:ext cx="3044880" cy="2735280"/>
          </a:xfrm>
          <a:prstGeom prst="rect">
            <a:avLst/>
          </a:prstGeom>
          <a:ln w="0">
            <a:noFill/>
          </a:ln>
        </p:spPr>
      </p:pic>
      <p:pic>
        <p:nvPicPr>
          <p:cNvPr id="226" name="图片 3" descr="IMG_2342.JPG"/>
          <p:cNvPicPr/>
          <p:nvPr/>
        </p:nvPicPr>
        <p:blipFill>
          <a:blip r:embed="rId2"/>
          <a:srcRect l="9244" t="0" r="20167" b="17927"/>
          <a:stretch/>
        </p:blipFill>
        <p:spPr>
          <a:xfrm>
            <a:off x="5796000" y="4149720"/>
            <a:ext cx="2530440" cy="22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牵引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142640"/>
            <a:ext cx="585792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颈椎牵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适应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颈椎退行性椎间盘疾病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颈椎小关节紊乱及生理弧度改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颈椎滑脱不超过Ⅰ度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颈部肌肉痉挛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禁忌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颈椎及其邻近组织肿瘤、结核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颈内动脉严重狭窄且有斑块形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严重颈椎失稳或椎体骨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颈脊髓压迫症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0" name="Picture 4" descr="CIMG4827"/>
          <p:cNvPicPr/>
          <p:nvPr/>
        </p:nvPicPr>
        <p:blipFill>
          <a:blip r:embed="rId1"/>
          <a:srcRect l="6791" t="0" r="19488" b="0"/>
          <a:stretch/>
        </p:blipFill>
        <p:spPr>
          <a:xfrm>
            <a:off x="5857920" y="1571760"/>
            <a:ext cx="3154320" cy="46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牵引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610920" y="1413000"/>
            <a:ext cx="82818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牵引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机械方式，电动方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体位：坐位，卧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牵引时间：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0min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牵引角度：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中立位牵引（前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°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°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屈位牵引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°~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°;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颈椎下段前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°~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°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牵引重量：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体重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％，最大重量不超过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0kg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牵引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304920" y="1197000"/>
            <a:ext cx="8610480" cy="505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腰椎牵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适应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腰椎间盘突出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腰椎退行性椎间盘疾患、腰椎管狭窄症、腰椎小关节紊乱、腰椎退行性骨关节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腰肌痉挛或紧张、腰背痛及腰腿痛，非手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AIS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等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禁忌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有马尾神经综合征表现的腰部疾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腰椎恶性肿瘤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严重的骨质疏松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心肺功能障碍及孕妇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神经发育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68360" y="1483920"/>
            <a:ext cx="84470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主要用于脑损伤后运动控制障碍的治疗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Bobath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Brunnstrom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神经肌肉本体感觉促进法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PNF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多感觉刺激疗法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Roo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运动再学习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40" name="Picture 4" descr="20040413044308781"/>
          <p:cNvPicPr/>
          <p:nvPr/>
        </p:nvPicPr>
        <p:blipFill>
          <a:blip r:embed="rId1"/>
          <a:stretch/>
        </p:blipFill>
        <p:spPr>
          <a:xfrm>
            <a:off x="6659640" y="2060640"/>
            <a:ext cx="2149560" cy="198108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4" descr="20040413044308875"/>
          <p:cNvPicPr/>
          <p:nvPr/>
        </p:nvPicPr>
        <p:blipFill>
          <a:blip r:embed="rId2"/>
          <a:stretch/>
        </p:blipFill>
        <p:spPr>
          <a:xfrm>
            <a:off x="6300720" y="4076640"/>
            <a:ext cx="2630520" cy="23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42560" y="404280"/>
            <a:ext cx="735804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关节活动度练习种类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(range of motion, ROM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55640" y="1916280"/>
            <a:ext cx="763272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被动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ROM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练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外力：自身，他人，器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主动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ROM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练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自身肌群主动收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主动辅助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ROM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练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自身肌群收缩与外部辅助相结合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Box 12"/>
          <p:cNvSpPr/>
          <p:nvPr/>
        </p:nvSpPr>
        <p:spPr>
          <a:xfrm>
            <a:off x="6875640" y="4581360"/>
            <a:ext cx="21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肩关节前屈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ROM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练习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1" name="Picture 5" descr="P~12"/>
          <p:cNvPicPr/>
          <p:nvPr/>
        </p:nvPicPr>
        <p:blipFill>
          <a:blip r:embed="rId1"/>
          <a:stretch/>
        </p:blipFill>
        <p:spPr>
          <a:xfrm>
            <a:off x="6227640" y="1989000"/>
            <a:ext cx="2189160" cy="20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关节活动度练习临床应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755640" y="1413000"/>
            <a:ext cx="784872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被动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ROM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练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MMT&lt;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级，主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ROM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练习前的被动示范，牵伸前预备运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维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ROM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改善血液循环及血管张力，减轻疼痛，加速伤口愈合，运动动作意识维持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矩形 2"/>
          <p:cNvSpPr/>
          <p:nvPr/>
        </p:nvSpPr>
        <p:spPr>
          <a:xfrm>
            <a:off x="3132000" y="260280"/>
            <a:ext cx="36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护理操作技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7" name="图片 3" descr="37AO1752.jpg"/>
          <p:cNvPicPr/>
          <p:nvPr/>
        </p:nvPicPr>
        <p:blipFill>
          <a:blip r:embed="rId1"/>
          <a:srcRect l="1697" t="5944" r="18110" b="0"/>
          <a:stretch/>
        </p:blipFill>
        <p:spPr>
          <a:xfrm>
            <a:off x="539640" y="1052640"/>
            <a:ext cx="3081600" cy="2404800"/>
          </a:xfrm>
          <a:prstGeom prst="rect">
            <a:avLst/>
          </a:prstGeom>
          <a:ln w="0">
            <a:noFill/>
          </a:ln>
        </p:spPr>
      </p:pic>
      <p:sp>
        <p:nvSpPr>
          <p:cNvPr id="128" name="TextBox 4"/>
          <p:cNvSpPr/>
          <p:nvPr/>
        </p:nvSpPr>
        <p:spPr>
          <a:xfrm>
            <a:off x="611280" y="3573360"/>
            <a:ext cx="302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健侧上肢带动患侧上肢运动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9" name="图片 5" descr="37AO1770.jpg"/>
          <p:cNvPicPr/>
          <p:nvPr/>
        </p:nvPicPr>
        <p:blipFill>
          <a:blip r:embed="rId2"/>
          <a:srcRect l="27583" t="29114" r="11034" b="19342"/>
          <a:stretch/>
        </p:blipFill>
        <p:spPr>
          <a:xfrm>
            <a:off x="5003640" y="1125360"/>
            <a:ext cx="3672000" cy="2016360"/>
          </a:xfrm>
          <a:prstGeom prst="rect">
            <a:avLst/>
          </a:prstGeom>
          <a:ln w="0">
            <a:noFill/>
          </a:ln>
        </p:spPr>
      </p:pic>
      <p:sp>
        <p:nvSpPr>
          <p:cNvPr id="130" name="TextBox 6"/>
          <p:cNvSpPr/>
          <p:nvPr/>
        </p:nvSpPr>
        <p:spPr>
          <a:xfrm>
            <a:off x="4788000" y="3213000"/>
            <a:ext cx="410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治疗师辅助患者进行髋、膝、踝屈曲练习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31" name="组合 13"/>
          <p:cNvGrpSpPr/>
          <p:nvPr/>
        </p:nvGrpSpPr>
        <p:grpSpPr>
          <a:xfrm>
            <a:off x="5364000" y="3645000"/>
            <a:ext cx="2278080" cy="2827080"/>
            <a:chOff x="5364000" y="3645000"/>
            <a:chExt cx="2278080" cy="2827080"/>
          </a:xfrm>
        </p:grpSpPr>
        <p:pic>
          <p:nvPicPr>
            <p:cNvPr id="132" name="Picture 3" descr="CIMG4819"/>
            <p:cNvPicPr/>
            <p:nvPr/>
          </p:nvPicPr>
          <p:blipFill>
            <a:blip r:embed="rId3"/>
            <a:srcRect l="1186" t="6865" r="0" b="19270"/>
            <a:stretch/>
          </p:blipFill>
          <p:spPr>
            <a:xfrm>
              <a:off x="5364000" y="3645000"/>
              <a:ext cx="2278080" cy="282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圆角矩形 8"/>
            <p:cNvSpPr/>
            <p:nvPr/>
          </p:nvSpPr>
          <p:spPr>
            <a:xfrm>
              <a:off x="5940000" y="4005360"/>
              <a:ext cx="431640" cy="647640"/>
            </a:xfrm>
            <a:custGeom>
              <a:avLst/>
              <a:gdLst>
                <a:gd name="textAreaLeft" fmla="*/ 20880 w 431640"/>
                <a:gd name="textAreaRight" fmla="*/ 410760 w 431640"/>
                <a:gd name="textAreaTop" fmla="*/ 20880 h 647640"/>
                <a:gd name="textAreaBottom" fmla="*/ 626760 h 647640"/>
              </a:gdLst>
              <a:ahLst/>
              <a:rect l="textAreaLeft" t="textAreaTop" r="textAreaRight" b="textAreaBottom"/>
              <a:pathLst>
                <a:path w="21600" h="32400">
                  <a:moveTo>
                    <a:pt x="3600" y="0"/>
                  </a:moveTo>
                  <a:arcTo wR="3600" hR="3600" stAng="16200000" swAng="-5400000"/>
                  <a:lnTo>
                    <a:pt x="0" y="28800"/>
                  </a:lnTo>
                  <a:arcTo wR="3600" hR="3600" stAng="10800000" swAng="-5400000"/>
                  <a:lnTo>
                    <a:pt x="18000" y="3240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8ac8de"/>
            </a:solidFill>
            <a:ln w="25560">
              <a:solidFill>
                <a:srgbClr val="6492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34" name="TextBox 9"/>
          <p:cNvSpPr/>
          <p:nvPr/>
        </p:nvSpPr>
        <p:spPr>
          <a:xfrm>
            <a:off x="7503840" y="3716280"/>
            <a:ext cx="667080" cy="27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器械辅助下肩关节</a:t>
            </a:r>
            <a:r>
              <a:rPr b="1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ROM</a:t>
            </a:r>
            <a:r>
              <a:rPr b="1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练习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5" name="图片 10" descr="37AO1744.jpg"/>
          <p:cNvPicPr/>
          <p:nvPr/>
        </p:nvPicPr>
        <p:blipFill>
          <a:blip r:embed="rId4"/>
          <a:srcRect l="24189" t="13605" r="30271" b="12969"/>
          <a:stretch/>
        </p:blipFill>
        <p:spPr>
          <a:xfrm>
            <a:off x="1042920" y="4076640"/>
            <a:ext cx="2376720" cy="22449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12"/>
          <p:cNvSpPr/>
          <p:nvPr/>
        </p:nvSpPr>
        <p:spPr>
          <a:xfrm>
            <a:off x="3571920" y="4221000"/>
            <a:ext cx="42372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主动</a:t>
            </a:r>
            <a:r>
              <a:rPr b="1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ROM</a:t>
            </a:r>
            <a:r>
              <a:rPr b="1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练习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78920" y="259920"/>
            <a:ext cx="8077320" cy="77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肌力增强练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1618920" y="1557000"/>
            <a:ext cx="6792840" cy="454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肌力增强练习种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631440" indent="-2426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抗阻训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971280" indent="-19404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徒手抗阻练习，器械抗阻练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291600" indent="-29160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肌力增强练习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631440" indent="-2426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增加肌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631440" indent="-2426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增加肌耐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631440" indent="-2426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增加爆发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291600" indent="-291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291600" indent="-291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11280" y="40464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肌力增强练习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注意事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避免用力憋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疲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骨质疏松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运动后的体力恢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训练过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动作代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运动引起的肌肉酸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宋体"/>
              </a:rPr>
              <a:t>禁忌证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炎症期，疼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50920" y="304560"/>
            <a:ext cx="86644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肌力增强练习运动处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899640" y="1628280"/>
            <a:ext cx="8015400" cy="461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等张运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向心运动与离心运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开链运动与闭链运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等速运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等长运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抗阻练习操作技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8" name="Picture 6" descr="200608~天津 046"/>
          <p:cNvPicPr/>
          <p:nvPr/>
        </p:nvPicPr>
        <p:blipFill>
          <a:blip r:embed="rId1"/>
          <a:srcRect l="4425" t="0" r="0" b="9444"/>
          <a:stretch/>
        </p:blipFill>
        <p:spPr>
          <a:xfrm>
            <a:off x="395280" y="1341360"/>
            <a:ext cx="2736720" cy="2374920"/>
          </a:xfrm>
          <a:prstGeom prst="rect">
            <a:avLst/>
          </a:prstGeom>
          <a:ln w="0">
            <a:noFill/>
          </a:ln>
        </p:spPr>
      </p:pic>
      <p:sp>
        <p:nvSpPr>
          <p:cNvPr id="149" name="TextBox 4"/>
          <p:cNvSpPr/>
          <p:nvPr/>
        </p:nvSpPr>
        <p:spPr>
          <a:xfrm>
            <a:off x="1979640" y="371628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徒手抗阻练习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0" name="Picture 4" descr="CIMG4835"/>
          <p:cNvPicPr/>
          <p:nvPr/>
        </p:nvPicPr>
        <p:blipFill>
          <a:blip r:embed="rId2"/>
          <a:stretch/>
        </p:blipFill>
        <p:spPr>
          <a:xfrm>
            <a:off x="5435640" y="1341360"/>
            <a:ext cx="2881440" cy="23749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151" name="Picture 7" descr="CIMG4831"/>
          <p:cNvPicPr/>
          <p:nvPr/>
        </p:nvPicPr>
        <p:blipFill>
          <a:blip r:embed="rId3"/>
          <a:srcRect l="5759" t="7681" r="6200" b="5613"/>
          <a:stretch/>
        </p:blipFill>
        <p:spPr>
          <a:xfrm>
            <a:off x="5435640" y="3860640"/>
            <a:ext cx="2808360" cy="2581560"/>
          </a:xfrm>
          <a:prstGeom prst="rect">
            <a:avLst/>
          </a:prstGeom>
          <a:ln w="0">
            <a:noFill/>
          </a:ln>
        </p:spPr>
      </p:pic>
      <p:sp>
        <p:nvSpPr>
          <p:cNvPr id="152" name="TextBox 7"/>
          <p:cNvSpPr/>
          <p:nvPr/>
        </p:nvSpPr>
        <p:spPr>
          <a:xfrm>
            <a:off x="8392320" y="1700280"/>
            <a:ext cx="454680" cy="36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器械（哑铃、沙包）抗阻练习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3" name="Picture 6" descr="37AO1625_缩小大小"/>
          <p:cNvPicPr/>
          <p:nvPr/>
        </p:nvPicPr>
        <p:blipFill>
          <a:blip r:embed="rId4"/>
          <a:srcRect l="0" t="0" r="14882" b="38363"/>
          <a:stretch/>
        </p:blipFill>
        <p:spPr>
          <a:xfrm>
            <a:off x="3132000" y="1341360"/>
            <a:ext cx="2200320" cy="2374920"/>
          </a:xfrm>
          <a:prstGeom prst="rect">
            <a:avLst/>
          </a:prstGeom>
          <a:ln w="0">
            <a:noFill/>
          </a:ln>
        </p:spPr>
      </p:pic>
      <p:grpSp>
        <p:nvGrpSpPr>
          <p:cNvPr id="154" name="组合 11"/>
          <p:cNvGrpSpPr/>
          <p:nvPr/>
        </p:nvGrpSpPr>
        <p:grpSpPr>
          <a:xfrm>
            <a:off x="755640" y="4149720"/>
            <a:ext cx="2305080" cy="2351160"/>
            <a:chOff x="755640" y="4149720"/>
            <a:chExt cx="2305080" cy="2351160"/>
          </a:xfrm>
        </p:grpSpPr>
        <p:pic>
          <p:nvPicPr>
            <p:cNvPr id="155" name="Picture 5" descr="37AO1633_缩小大小"/>
            <p:cNvPicPr/>
            <p:nvPr/>
          </p:nvPicPr>
          <p:blipFill>
            <a:blip r:embed="rId5"/>
            <a:srcRect l="4973" t="15591" r="0" b="10866"/>
            <a:stretch/>
          </p:blipFill>
          <p:spPr>
            <a:xfrm>
              <a:off x="755640" y="4149720"/>
              <a:ext cx="2305080" cy="235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圆角矩形 10"/>
            <p:cNvSpPr/>
            <p:nvPr/>
          </p:nvSpPr>
          <p:spPr>
            <a:xfrm>
              <a:off x="2346480" y="4159080"/>
              <a:ext cx="488880" cy="450720"/>
            </a:xfrm>
            <a:prstGeom prst="roundRect">
              <a:avLst>
                <a:gd name="adj" fmla="val 16667"/>
              </a:avLst>
            </a:prstGeom>
            <a:solidFill>
              <a:srgbClr val="8ac8de"/>
            </a:solidFill>
            <a:ln w="25560">
              <a:solidFill>
                <a:srgbClr val="6492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57" name="TextBox 12"/>
          <p:cNvSpPr/>
          <p:nvPr/>
        </p:nvSpPr>
        <p:spPr>
          <a:xfrm>
            <a:off x="2968200" y="4221000"/>
            <a:ext cx="667080" cy="263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伸膝抗阻练习（弹力带）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Guest2</cp:lastModifiedBy>
  <dcterms:modified xsi:type="dcterms:W3CDTF">2015-12-16T06:33:40Z</dcterms:modified>
  <cp:revision>130</cp:revision>
  <dc:subject/>
  <dc:title>内科护理学</dc:title>
</cp:coreProperties>
</file>